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A403-E890-4952-85B9-CA6FA702155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66B-4A0C-47C2-87F1-06A277B455A7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295-295F-4652-81C6-22A0557EF74A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AAC-F6B9-4FAB-9DF1-C045C4F9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EBB-2FA7-4F17-AFFC-EC0CE79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356-71D2-4A36-AFF5-5F0A8267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CDC0-FC15-47BC-ADD6-6169FF2E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B6CB-E8CF-4848-AA2F-C99422D6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DEA5-7C11-4E2F-B8B5-DBB82D70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2581-2BBC-4EDA-8F4C-B817B0A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EF17-9DB0-40D7-938B-0533628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9F39-8661-46C5-B3D4-83EAFE6E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D91B-5E58-427A-B6FB-5B5A7DF1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209-AE8E-42A2-B469-75088F1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A07-448F-4CD6-A6AB-785598A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7561-C3E0-4180-9247-F2A337E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9D08-FD27-438C-BAAF-C940D43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A75F-DB42-415E-BFB8-C2139A3E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F07-B143-4D03-B719-8C60D795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631D-01F2-4B31-90D9-AF7F05EB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600-632F-4925-AECF-29879E6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26A-8EE4-44F5-A659-BE369C58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78A-1678-42BB-98A3-5B35DB54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DD8-6B35-42C1-AA71-8BCFC9FB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092-B6C5-4A74-AEDD-88803935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F75-42E2-41E1-8F00-FF7AF60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A07-F57B-42E7-935B-E3E3C4D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8DE-B826-4732-8BB1-68D3F7E39802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49" name="AutoShape 8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5262-E9F7-429E-94BF-FAE8E5206E23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illipsacademyhighschoollibrary.wikispaces.com/" TargetMode="External"/><Relationship Id="rId2" Type="http://schemas.openxmlformats.org/officeDocument/2006/relationships/hyperlink" Target="http://cuffemstacademy.wikispaces.com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kaykay99.wikispaces.com/hom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in the Library Media C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brary Media Center serves as a technology center for both teachers and students in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brarian provides instruction and support that prepares students to be creative, confident, and responsible users of technology and Internet communication too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79160"/>
            <a:ext cx="7666200" cy="764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incorporate technologies in instru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adopt different technology tools for the right projects using professional jud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ontinue with my professional development training to further-develop my own technological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s’ 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phillipsacademyhighschoollibrar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cuffemstacadem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thical Use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to seek diverse perspectives, gather and use information online ethically, and use social tools responsibly and saf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and understand Internet copyright basi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learn about cyberbullying and how to prev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Produ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create, both individually 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, classroom projects using different technology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processing/Power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/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cameras/voice recor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In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 is one of my favorite Web 2.0 t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a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typ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udents with basic knowledge and skills of simple web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tudents build their multimedia portfolio for their colleg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paper load for both teachers and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tudent understand the importance of following copyright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05440" cy="806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kaykay99.wikispaces.com/hom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5:36:09Z</dcterms:created>
  <dc:creator>knight knight</dc:creator>
  <dc:description/>
  <dc:language>en-US</dc:language>
  <cp:lastModifiedBy>Yamei</cp:lastModifiedBy>
  <cp:lastPrinted>2011-07-10T18:23:18Z</cp:lastPrinted>
  <dcterms:modified xsi:type="dcterms:W3CDTF">2011-07-12T23:58:27Z</dcterms:modified>
  <cp:revision>184</cp:revision>
  <dc:subject/>
  <dc:title>Technology in the Media Center</dc:title>
</cp:coreProperties>
</file>